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2A03-A05E-4B94-B43E-A7EF087FF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216-1D38-4EF9-9351-C9B17883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0B0-7E76-4C68-BAEE-E51FBB09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8E6-F747-4490-9486-84E40296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1CA-75AF-4787-B1AA-750FCBA7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292-43EC-45B6-958D-8BFFF450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29A-DBC2-4648-A6CF-114A6E72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DE1-BD54-47F5-B2C8-57FA6F7D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32B-DAEF-460E-AE08-6CC4EEB6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E0B-8EAA-4BCE-AD86-FB499D22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876-0492-430F-BF81-04F2F8DD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E04-A833-4AF6-A293-F6DE0119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343-00B8-47D5-AFEC-EA7EC701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616E-378E-4A0B-96A3-7F8DC9523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7-01-26T10:16:30Z</dcterms:modified>
  <cp:revision>134</cp:revision>
  <dc:subject/>
  <dc:title>PowerPoint Presentation</dc:title>
</cp:coreProperties>
</file>